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7EA-BA5E-4F00-BAB6-D88F2000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5E9-3996-40F9-8D24-60C5A22F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F6C-0787-46BC-BD09-412DB3E0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451-DA0A-489D-9100-F5BF520E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08D-7DDA-4E7A-A380-39CCC71F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91C-C77F-41BA-A35B-9D10A11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9DB-8997-4A95-A392-C561478B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D63-F9D1-4436-BD81-D81FD402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5F8-D198-43E4-985E-77BEDE3B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4C1-99FF-4A3C-969C-B515F743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FF9-07C8-450D-B363-2ED8923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C39-9810-4C40-9C1A-B3E1C42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EEEF-D335-416E-9224-E562284CE5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 Light"/>
              </a:rPr>
              <a:t>Multiplication puzzl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: Rounded Corners 3"/>
          <p:cNvSpPr/>
          <p:nvPr/>
        </p:nvSpPr>
        <p:spPr>
          <a:xfrm>
            <a:off x="3098880" y="6311880"/>
            <a:ext cx="5992560" cy="3873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The Busy Lizzie Maths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93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ctangle: Rounded Corners 35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: Rounded Corners 3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5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00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Rectangle: Rounded Corners 35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2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06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Rectangle: Rounded Corners 35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: Rounded Corners 34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6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13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Straight Connector 29"/>
            <p:cNvSpPr/>
            <p:nvPr/>
          </p:nvSpPr>
          <p:spPr>
            <a:xfrm>
              <a:off x="3276000" y="1986840"/>
              <a:ext cx="547092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Straight Connector 30"/>
            <p:cNvSpPr/>
            <p:nvPr/>
          </p:nvSpPr>
          <p:spPr>
            <a:xfrm>
              <a:off x="437004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Rectangle: Rounded Corners 35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4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19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: Rounded Corners 35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: Rounded Corners 3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26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Straight Connector 29"/>
            <p:cNvSpPr/>
            <p:nvPr/>
          </p:nvSpPr>
          <p:spPr>
            <a:xfrm>
              <a:off x="3276000" y="1986840"/>
              <a:ext cx="547092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Straight Connector 30"/>
            <p:cNvSpPr/>
            <p:nvPr/>
          </p:nvSpPr>
          <p:spPr>
            <a:xfrm>
              <a:off x="437004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Rectangle: Rounded Corners 36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32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: Rounded Corners 36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: Rounded Corners 34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35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39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Rectangle: Rounded Corners 36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4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45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Rectangle: Rounded Corners 36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: Rounded Corners 3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5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52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Straight Connector 29"/>
            <p:cNvSpPr/>
            <p:nvPr/>
          </p:nvSpPr>
          <p:spPr>
            <a:xfrm>
              <a:off x="3274560" y="204696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Straight Connector 30"/>
            <p:cNvSpPr/>
            <p:nvPr/>
          </p:nvSpPr>
          <p:spPr>
            <a:xfrm>
              <a:off x="4335480" y="1043640"/>
              <a:ext cx="0" cy="501480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Rectangle: Rounded Corners 36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is document, you will find 10 multiplication puzzles and their answ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fill in all the missing numbers in the multiplication squar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ross the top and down the left hand side of the square, you may use the numbers 2, 3, 4, 5, 6, 7, 8 and 9 only o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58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Rectangle: Rounded Corners 36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: Rounded Corners 3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5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65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ectangle: Rounded Corners 36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4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171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Rectangle: Rounded Corners 36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5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0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48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Straight Connector 28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Straight Connector 29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Rectangle: Rounded Corners 31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30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54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Straight Connector 28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29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: Rounded Corners 31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: Rounded Corners 3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30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61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Straight Connector 28"/>
            <p:cNvSpPr/>
            <p:nvPr/>
          </p:nvSpPr>
          <p:spPr>
            <a:xfrm>
              <a:off x="3276000" y="1986840"/>
              <a:ext cx="547092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9"/>
            <p:cNvSpPr/>
            <p:nvPr/>
          </p:nvSpPr>
          <p:spPr>
            <a:xfrm>
              <a:off x="437004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Rectangle: Rounded Corners 31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2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0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67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Straight Connector 28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29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Rectangle: Rounded Corners 31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: Rounded Corners 3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4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74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Rectangle: Rounded Corners 34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5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80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Straight Connector 29"/>
            <p:cNvSpPr/>
            <p:nvPr/>
          </p:nvSpPr>
          <p:spPr>
            <a:xfrm>
              <a:off x="3274560" y="1986840"/>
              <a:ext cx="530388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30"/>
            <p:cNvSpPr/>
            <p:nvPr/>
          </p:nvSpPr>
          <p:spPr>
            <a:xfrm>
              <a:off x="433548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Rectangle: Rounded Corners 34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: Rounded Corners 3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6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33"/>
          <p:cNvGrpSpPr/>
          <p:nvPr/>
        </p:nvGrpSpPr>
        <p:grpSpPr>
          <a:xfrm>
            <a:off x="3235320" y="932040"/>
            <a:ext cx="5545080" cy="5141880"/>
            <a:chOff x="3235320" y="932040"/>
            <a:chExt cx="5545080" cy="5141880"/>
          </a:xfrm>
        </p:grpSpPr>
        <p:pic>
          <p:nvPicPr>
            <p:cNvPr id="87" name="Group 26" descr=""/>
            <p:cNvPicPr/>
            <p:nvPr/>
          </p:nvPicPr>
          <p:blipFill>
            <a:blip r:embed="rId1"/>
            <a:stretch/>
          </p:blipFill>
          <p:spPr>
            <a:xfrm>
              <a:off x="3235320" y="932040"/>
              <a:ext cx="5545080" cy="51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Straight Connector 29"/>
            <p:cNvSpPr/>
            <p:nvPr/>
          </p:nvSpPr>
          <p:spPr>
            <a:xfrm>
              <a:off x="3276000" y="1986840"/>
              <a:ext cx="5470920" cy="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Straight Connector 30"/>
            <p:cNvSpPr/>
            <p:nvPr/>
          </p:nvSpPr>
          <p:spPr>
            <a:xfrm>
              <a:off x="4370040" y="1037880"/>
              <a:ext cx="0" cy="4745880"/>
            </a:xfrm>
            <a:prstGeom prst="line">
              <a:avLst/>
            </a:prstGeom>
            <a:ln w="5724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Rectangle: Rounded Corners 35"/>
          <p:cNvSpPr/>
          <p:nvPr/>
        </p:nvSpPr>
        <p:spPr>
          <a:xfrm>
            <a:off x="208080" y="190440"/>
            <a:ext cx="93348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14:29:11Z</dcterms:created>
  <dc:creator>Paul Gibbs</dc:creator>
  <dc:description/>
  <dc:language>en-US</dc:language>
  <cp:lastModifiedBy>Paul Gibbs</cp:lastModifiedBy>
  <dcterms:modified xsi:type="dcterms:W3CDTF">2019-02-07T15:57:53Z</dcterms:modified>
  <cp:revision>6</cp:revision>
  <dc:subject/>
  <dc:title>Multiplication puzzles</dc:title>
</cp:coreProperties>
</file>